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462-C8DC-47C9-A6C0-799D19AE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3F3-C1CA-4292-9BA5-12AF22E2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F28-32C9-4659-AE70-B79BE102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606-18DF-44CC-A139-2E19F2BF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8FC4-E7D1-4AA3-9008-88CFD134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0DD6-B8F1-4330-B831-97F2089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1626-6226-4DDF-AE31-8EA9B466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9C44-9148-4842-B253-9B7A0A9A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1E87-4B01-4E92-A2A5-C57BFF34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4AC-D323-4281-88B2-CBEE2B74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ACFC-9916-4E32-AED0-6D45E2B8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696-0850-4068-A155-08747EB1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0A0B-3C03-4E0C-9E01-5B551076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DE5E-A759-4AD4-B4BC-33425C0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51BC-239E-414A-9323-88261507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6517-DA8D-4234-BA16-681D340E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EE70-185E-4399-974E-EFB2314A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DEA5-DE85-4100-AC72-974FAA73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D3F4-792F-4FA2-8CA4-2926F2D0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92E8-E993-4AF9-9DBD-F18AB105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0262-3DE3-4725-A179-068A635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AD57-42AE-456E-AB7B-6D4BAEA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E75-810A-4FE9-84A2-EF40BDD9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5E90-4A40-4669-ADF6-C47581A1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35C3-24B8-4126-9B57-EADA734F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3C43-6210-444E-A35E-2FDAF3B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67FA-B79B-4928-ADB9-4DD95DDD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21A1-7871-48AE-AE66-65E46DDF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029C-CCF4-4CF3-98FB-41930B95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37B4-C8F2-4E28-80F6-26CF442F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24E-DD19-456E-9E7C-114F03D3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4AF-4619-492F-B040-3D3AE4A2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08B-7804-46B9-BA5A-3D5BCDCA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501-F52C-4189-A545-6E771D29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658-0472-457D-A383-B1B6EA2C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E31-FAAC-41E3-9D2F-E01C6C2B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8E63-D216-408A-885C-5F356466B6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2879-964B-4728-9E40-D5236B5207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c3e59f"/>
              </a:gs>
              <a:gs pos="100000">
                <a:srgbClr val="d1ebb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кругленный прямоугольник 11"/>
          <p:cNvSpPr/>
          <p:nvPr/>
        </p:nvSpPr>
        <p:spPr>
          <a:xfrm>
            <a:off x="1042920" y="44280"/>
            <a:ext cx="8101080" cy="809640"/>
          </a:xfrm>
          <a:prstGeom prst="roundRect">
            <a:avLst>
              <a:gd name="adj" fmla="val 50000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1260360" y="44280"/>
            <a:ext cx="8064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евое государственное бюджетное профессиона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АВГОРОДСКИЙ ПЕДАГОГИЧЕСКИЙ КОЛЛЕД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D:\admin\Рабочий стол\ФОТО.jpg"/>
          <p:cNvPicPr/>
          <p:nvPr/>
        </p:nvPicPr>
        <p:blipFill>
          <a:blip r:embed="rId4"/>
          <a:stretch/>
        </p:blipFill>
        <p:spPr>
          <a:xfrm>
            <a:off x="-19080" y="-19080"/>
            <a:ext cx="129384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admin\Рабочий стол\проект символики колледжа - копия.png"/>
          <p:cNvPicPr/>
          <p:nvPr/>
        </p:nvPicPr>
        <p:blipFill>
          <a:blip r:embed="rId5"/>
          <a:stretch/>
        </p:blipFill>
        <p:spPr>
          <a:xfrm>
            <a:off x="7920" y="52560"/>
            <a:ext cx="1252440" cy="809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A8EA-C177-4DE7-BFBA-030A1A6E29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ontrol 4"/>
          <p:cNvSpPr/>
          <p:nvPr/>
        </p:nvSpPr>
        <p:spPr>
          <a:xfrm>
            <a:off x="6429240" y="6508800"/>
            <a:ext cx="2973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Церковны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Содержимое 4" descr="mt15.jpg"/>
          <p:cNvPicPr/>
          <p:nvPr/>
        </p:nvPicPr>
        <p:blipFill>
          <a:blip r:embed="rId1"/>
          <a:stretch/>
        </p:blipFill>
        <p:spPr>
          <a:xfrm>
            <a:off x="1187280" y="1628640"/>
            <a:ext cx="7391520" cy="492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Граждански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5" name="Содержимое 14" descr="гражданский брак.jpg"/>
          <p:cNvPicPr/>
          <p:nvPr/>
        </p:nvPicPr>
        <p:blipFill>
          <a:blip r:embed="rId1"/>
          <a:srcRect l="13209" t="20126" r="15094" b="14467"/>
          <a:stretch/>
        </p:blipFill>
        <p:spPr>
          <a:xfrm>
            <a:off x="1258920" y="1484280"/>
            <a:ext cx="7224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Фиктивны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7" name="Picture 2" descr="C:\Users\user\Desktop\Без названия.jpg"/>
          <p:cNvPicPr/>
          <p:nvPr/>
        </p:nvPicPr>
        <p:blipFill>
          <a:blip r:embed="rId1"/>
          <a:stretch/>
        </p:blipFill>
        <p:spPr>
          <a:xfrm>
            <a:off x="952560" y="1900080"/>
            <a:ext cx="2643120" cy="1920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user\Desktop\630303_600.jpg"/>
          <p:cNvPicPr/>
          <p:nvPr/>
        </p:nvPicPr>
        <p:blipFill>
          <a:blip r:embed="rId2"/>
          <a:stretch/>
        </p:blipFill>
        <p:spPr>
          <a:xfrm>
            <a:off x="3419640" y="1900080"/>
            <a:ext cx="5473440" cy="448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user\Desktop\depositphotos_244839032-stock-photo-male-female-hands-passport-money.jpg"/>
          <p:cNvPicPr/>
          <p:nvPr/>
        </p:nvPicPr>
        <p:blipFill>
          <a:blip r:embed="rId3"/>
          <a:stretch/>
        </p:blipFill>
        <p:spPr>
          <a:xfrm>
            <a:off x="826920" y="3841920"/>
            <a:ext cx="32403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пасибо за работу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1" name="Picture 2" descr="C:\Users\user\Desktop\Рисунок2.jpg"/>
          <p:cNvPicPr/>
          <p:nvPr/>
        </p:nvPicPr>
        <p:blipFill>
          <a:blip r:embed="rId1"/>
          <a:stretch/>
        </p:blipFill>
        <p:spPr>
          <a:xfrm>
            <a:off x="1116000" y="148428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6286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 семьи дл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ы семей, виды бра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 вступления в брак, условия расторжения брака , условия, препятствующие вступлению в б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отношения родителей и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и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ставьте пропус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773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я – это – основанная на ___И______ (1) и/или кровном родстве малая __З________ (2), члены которой объединены совместным проживанием и ведением домашнего хозяйства, эмоциональной связью, взаимными ____Д_______ (3) по отношению друг к другу. Также семьей называется социальный ____Е______ (4), т.е. устойчивая форма взаимоотношений между людьми, в рамках которого осуществляется основная часть повседневной жизни людей, т.е. сексуальные отношения, деторождение и первичная ___В_________ (5) детей, значительная часть бытового ухода, образовательного и медицинского обслуживания, особенно по отношению к __А_________ (6) и лицам пожилого возраст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ерите из списка слова, которые необходимо вставить на места пропус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дети, Б) брак, В) социализация, Г) коллектив, Д) обязанности, Е) институт, Ж) отношения, З) группа, И) любовь, К) уваж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user\Desktop\Screenshot_3.png"/>
          <p:cNvPicPr/>
          <p:nvPr/>
        </p:nvPicPr>
        <p:blipFill>
          <a:blip r:embed="rId1"/>
          <a:stretch/>
        </p:blipFill>
        <p:spPr>
          <a:xfrm>
            <a:off x="384120" y="115920"/>
            <a:ext cx="85089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с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116000" y="1700280"/>
            <a:ext cx="77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К функциям семьи относи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оспитание законопослушного поведения у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определение размера коммунальных платеж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установление стандартов 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определение минимального размера оплаты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 совместном расходовании семей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ется функция семь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эконом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социально – стату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психологическая-восстановите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репроду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с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971640" y="126828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Репродуктивной функцией семьи явля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рождение и содержание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ддержка несовершеннолетних и нетрудоспособных членов семь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накопление и передача собствен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освоение норм совместной жизни с другими люд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уговая (рекреационная) функция семьи проявляется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предоставлении ребенку определенного стат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совместном посещении культурно – массовых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составлении семейного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создании благоприятного психологического клим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иды семь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16000" y="162864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оличеству супру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796000" y="15987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ринципу на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1044720" y="278136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гам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700360" y="2781360"/>
            <a:ext cx="21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гамия (полиандр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197964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334800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5109120" y="278136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е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856560" y="2751120"/>
            <a:ext cx="196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-лине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 flipH="1">
            <a:off x="606420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743256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5796000" y="4344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главенст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5194080" y="5270400"/>
            <a:ext cx="15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6856560" y="5240160"/>
            <a:ext cx="196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-арх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1"/>
          <p:cNvSpPr/>
          <p:nvPr/>
        </p:nvSpPr>
        <p:spPr>
          <a:xfrm flipH="1">
            <a:off x="6064200" y="49816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2"/>
          <p:cNvSpPr/>
          <p:nvPr/>
        </p:nvSpPr>
        <p:spPr>
          <a:xfrm>
            <a:off x="7432560" y="49816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1189080" y="41180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оциальному положению супру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4"/>
          <p:cNvSpPr/>
          <p:nvPr/>
        </p:nvSpPr>
        <p:spPr>
          <a:xfrm>
            <a:off x="1312920" y="5259240"/>
            <a:ext cx="11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м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2752560" y="522936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теро-г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6"/>
          <p:cNvSpPr/>
          <p:nvPr/>
        </p:nvSpPr>
        <p:spPr>
          <a:xfrm flipH="1">
            <a:off x="1960560" y="497052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3328920" y="497052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иды семь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129680" y="347652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774160" y="35002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л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185840" y="191628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наличию обоих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H="1">
            <a:off x="1763280" y="278136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2987640" y="278136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227920" y="193680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оличеству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5219280" y="256536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6659640" y="2565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451640" y="2565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036120" y="3429000"/>
            <a:ext cx="130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у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57200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дет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7548480" y="3500280"/>
            <a:ext cx="12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-де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403280" y="429264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наличию регистрации бр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971640" y="5734080"/>
            <a:ext cx="30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, связанные юридическим бра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121280" y="5702400"/>
            <a:ext cx="361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, связанные фактическим бра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9"/>
          <p:cNvSpPr/>
          <p:nvPr/>
        </p:nvSpPr>
        <p:spPr>
          <a:xfrm flipH="1">
            <a:off x="2410920" y="5157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4067280" y="515772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Юридически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1" name="Содержимое 7" descr="74875066_3571750_2544.jpg"/>
          <p:cNvPicPr/>
          <p:nvPr/>
        </p:nvPicPr>
        <p:blipFill>
          <a:blip r:embed="rId1"/>
          <a:stretch/>
        </p:blipFill>
        <p:spPr>
          <a:xfrm>
            <a:off x="1332000" y="1773360"/>
            <a:ext cx="7086600" cy="474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43:06Z</dcterms:created>
  <dc:creator>Шиварев Павел Васильевич</dc:creator>
  <dc:description/>
  <dc:language>en-US</dc:language>
  <cp:lastModifiedBy>user</cp:lastModifiedBy>
  <dcterms:modified xsi:type="dcterms:W3CDTF">2021-04-01T15:30:53Z</dcterms:modified>
  <cp:revision>90</cp:revision>
  <dc:subject/>
  <dc:title>Система оценки по предмету  Человек и общество</dc:title>
</cp:coreProperties>
</file>